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ct" ContentType="image/x-pict"/>
  <Override PartName="/ppt/media/image4.jpeg" ContentType="image/jpeg"/>
  <Override PartName="/ppt/media/image5.pct" ContentType="image/x-pi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0D0D1-28A7-4322-94C1-B19B324C1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rived from flybase controlled vocabu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tment - groups of cells that don’t m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pato relational terms - used for annotations not for the ont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AB8D-712E-48AA-B446-7204898A8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542E-971E-4EE1-8CDE-6E01A3146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A978-CB55-4D1D-ACCE-009A75BBA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3B9A-EB4A-49B3-91CD-9209D90A2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3A82-61CF-4569-8CEB-6858D2A6D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D7CA-7A9A-4A84-9761-6A5C23DDB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8396-77F5-4C83-BB8A-E806721B3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AF55-A2EB-45B0-8F0F-BCF24DB03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2F29-488B-41B9-8BE8-C8F46DE10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20FC-D152-4F78-99AC-D8D631606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7E82-CE87-40F3-8F78-A661F5872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B36F-14DD-4FED-AD8E-05602F46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C8997-2075-4ACC-95A9-9C9AF67C90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Connected_t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attached_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d boundary between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na fide vs. fiat - when does it mat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3520" y="1676520"/>
            <a:ext cx="7772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tial terms as anatomical qualifi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nterior margin of supraorbital bon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BSPO:anterior margin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part_of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 TAO:supraorbital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bone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tial terms as modifiers for quality ter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rontal bone laterally compresse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: frontal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ATO:compressed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has_axi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BSPO:left/right ax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atial re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nterior_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distal_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dorsal_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posterior_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proximal_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urroun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ventral_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vicinity_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0" y="2057400"/>
            <a:ext cx="3124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104920"/>
            <a:ext cx="421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tial relations and PATO spatial relational qu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ed_to: fiat bound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029200" y="1523880"/>
            <a:ext cx="4114800" cy="50292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33520" y="1752480"/>
            <a:ext cx="41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axon trac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nnected_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europ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5520" y="2786040"/>
            <a:ext cx="4755960" cy="26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MA definitio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ural anatomical relation which holds between each anatomical structure of type A and some anatomical structure of type B such that each structure shares some part of its bona fide anatomical surface with that of the 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rry’s definition (from obo-discuss): x is connected_to y if x and y share a fiat bounda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ached_to: bona fide bound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c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ttached_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ttached_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MA defini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nnected_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lation which holds between each anatomical entity of type A and some anatomical entity of type B such that there is no bona fide boundary between their contiguous constitutional pa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965400" y="1860480"/>
            <a:ext cx="4797720" cy="30924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360520" y="6248520"/>
            <a:ext cx="138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re et al.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60720" y="4648320"/>
            <a:ext cx="138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re et al.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971800" y="2286000"/>
            <a:ext cx="5562720" cy="30574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ne + bone at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also be called j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ached_to: bona fide bound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na fide boundary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71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t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ttached_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85800" y="3200400"/>
            <a:ext cx="4797360" cy="3092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772240" y="1752480"/>
            <a:ext cx="2725560" cy="46753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7680" y="5981760"/>
            <a:ext cx="138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re et al.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775480" y="602928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re 2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atial ont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5790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view: top level div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tial re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atial ontology: top level div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tomical ax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tomical axis dire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tomical compart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tomical compartment bound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tomical gradi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tomical reg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tomical se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tomical surf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henoscape need for spatial te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urrences of quality (PATO) terms in 1,040 character descri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charac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osterior margin of lateral ethmoid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(0) straight, parallel to anterior edge of orbitosphenoid &amp; abruptly angled at midline; (1) broadly curved in ventral view, forming convex ar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henoscape need for spatial te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urrences of quality (PATO) terms in 1,040 character descri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819520" y="3048120"/>
          <a:ext cx="2509560" cy="295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3048120"/>
                    <a:ext cx="2509560" cy="29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6T18:09:11Z</dcterms:created>
  <dc:creator>Wasila Dahdul</dc:creator>
  <dc:description/>
  <dc:language>en-US</dc:language>
  <cp:lastModifiedBy>Wasila Dahdul</cp:lastModifiedBy>
  <dcterms:modified xsi:type="dcterms:W3CDTF">2008-05-19T18:55:25Z</dcterms:modified>
  <cp:revision>92</cp:revision>
  <dc:subject/>
  <dc:title>PowerPoint Presentation</dc:title>
</cp:coreProperties>
</file>